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489A1-2078-473D-8CB5-C8E455BD6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8A603-9296-4DD4-9993-00F77A54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12E93-3B2E-4312-945C-C7A19D793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4D99B-F12E-496F-8B04-2147B30DF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25587-0071-495A-ADA7-A5C561A3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9043-9BE2-4D40-94EE-2C7A32FA1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0900B-6D7B-41C6-ACE7-E79BAEE41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56ACB-1921-4003-8F5A-67B79E7E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F9258-8E64-4A85-A80B-FB9656D4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D2ED-5623-4630-9873-036967FD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54D08-1131-46C6-BEC4-143A20BD9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DCA1-F34B-46CD-94B7-8BFB5292F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0536-29E7-4157-BE30-846B8C0952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8-29T10:09:32Z</dcterms:modified>
  <cp:revision>43</cp:revision>
  <dc:subject/>
  <dc:title>SALARIUL</dc:title>
</cp:coreProperties>
</file>